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28.png" ContentType="image/png"/>
  <Override PartName="/ppt/media/image16.png" ContentType="image/png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1740-CDBE-41C7-B440-05E6FF23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C223-D785-42E1-99F4-92570161A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43000" y="689040"/>
            <a:ext cx="457344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837F-1345-46D7-BAA8-8FB31A74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FC58-5B27-4A80-A7CC-9185008AF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C1A3-1297-489B-801D-17D499A9D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258C-F393-48BF-88CA-015BC52CA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2632-48E9-43D4-8A4C-CAD03020A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9F30-9D44-4219-8224-CEF019054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805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5FE4-FBDC-4050-AE6A-CE548A1F6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232E-CDD9-4297-9E54-35537EF0B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DA9D-2C29-4883-9696-D7A6C4A39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93E6-90E2-43DE-88F9-41C9AE4B2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805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E6A3-BD2F-4724-BAA0-2EE27B918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D3A0-CF75-4114-B5B6-2200A882C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8655-4CFF-4AFD-8835-7AC77EDEA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0111-9D7E-4903-B936-6A94FE509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8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324120"/>
            <a:ext cx="2743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Houghton Miffli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42864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-</a:t>
            </a:r>
            <a:fld id="{13BB68CC-0022-49C9-A314-3882107869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b5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4b5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8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1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9c5238"/>
                </a:gs>
                <a:gs pos="100000">
                  <a:srgbClr val="4826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9c52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b5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4b5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hyperlink" Target="http://www.pbslearningmedia.org/asset/nvhe_vid_compounds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chemistrygeek.com/rainbow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43200" y="1752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9548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  <p:pic>
        <p:nvPicPr>
          <p:cNvPr id="90" name="Picture 12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3225960" cy="26798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  <p:sp>
        <p:nvSpPr>
          <p:cNvPr id="91" name="Text Box 13"/>
          <p:cNvSpPr/>
          <p:nvPr/>
        </p:nvSpPr>
        <p:spPr>
          <a:xfrm>
            <a:off x="461160" y="2209680"/>
            <a:ext cx="2093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4b5a60"/>
                </a:solidFill>
                <a:latin typeface="Arial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phospha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16920" y="6035760"/>
            <a:ext cx="1671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4b5a6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aceta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5" descr="vinegar"/>
          <p:cNvPicPr/>
          <p:nvPr/>
        </p:nvPicPr>
        <p:blipFill>
          <a:blip r:embed="rId3"/>
          <a:stretch/>
        </p:blipFill>
        <p:spPr>
          <a:xfrm>
            <a:off x="4419720" y="2895480"/>
            <a:ext cx="1320840" cy="3505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6"/>
          <p:cNvSpPr/>
          <p:nvPr/>
        </p:nvSpPr>
        <p:spPr>
          <a:xfrm>
            <a:off x="6248520" y="3429000"/>
            <a:ext cx="1981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876920" y="304920"/>
            <a:ext cx="3733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24a82"/>
                </a:solidFill>
                <a:uFillTx/>
                <a:latin typeface="Arial"/>
                <a:hlinkClick r:id="rId4"/>
              </a:rPr>
              <a:t>How Elements form compounds vide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943600" y="502920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natomic 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Table_4-1"/>
          <p:cNvPicPr/>
          <p:nvPr/>
        </p:nvPicPr>
        <p:blipFill>
          <a:blip r:embed="rId1"/>
          <a:stretch/>
        </p:blipFill>
        <p:spPr>
          <a:xfrm>
            <a:off x="457200" y="1185840"/>
            <a:ext cx="8229600" cy="5138640"/>
          </a:xfrm>
          <a:prstGeom prst="rect">
            <a:avLst/>
          </a:prstGeom>
          <a:ln w="28440">
            <a:solidFill>
              <a:srgbClr val="7c8f97"/>
            </a:solidFill>
            <a:miter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a Formu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formula for the ionic compound that will form between B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523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c5238"/>
                </a:solidFill>
                <a:latin typeface="Arial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Balance charge with  + and – 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Write the positive ion of metal first, a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ve ion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Ba</a:t>
            </a:r>
            <a:r>
              <a:rPr b="1" lang="en-US" sz="3200" spc="-1" strike="noStrike" baseline="30000">
                <a:solidFill>
                  <a:srgbClr val="4b5a60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Cl</a:t>
            </a:r>
            <a:r>
              <a:rPr b="1" lang="en-US" sz="3200" spc="-1" strike="noStrike" baseline="30000">
                <a:solidFill>
                  <a:srgbClr val="4b5a6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4b5a6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4b5a6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rite the number of ions neede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pt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BaCl</a:t>
            </a:r>
            <a:r>
              <a:rPr b="1" lang="en-US" sz="32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2844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rite the correct formula for the compounds containing the following 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)  NaS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 b) Na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) NaS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 A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)  AlCl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 b)  AlCl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) Al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 Mg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)  MgN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 b) Mg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) Mg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2844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b) Na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 A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)  AlCl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 Mg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) Mg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Cation first, then 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801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Monatomic cation = name of the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alci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f9954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801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Monatomic anion   =  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8f9954"/>
                </a:solidFill>
                <a:latin typeface="Arial"/>
              </a:rPr>
              <a:t>-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hlor</a:t>
            </a:r>
            <a:r>
              <a:rPr b="1" lang="en-US" sz="3200" spc="-1" strike="noStrike">
                <a:solidFill>
                  <a:srgbClr val="8f9954"/>
                </a:solidFill>
                <a:latin typeface="Arial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a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alcium chlor</a:t>
            </a:r>
            <a:r>
              <a:rPr b="1" lang="en-US" sz="3200" spc="-1" strike="noStrike">
                <a:solidFill>
                  <a:srgbClr val="8f9954"/>
                </a:solidFill>
                <a:latin typeface="Arial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219320"/>
            <a:ext cx="731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Ionic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ing Binary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a82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509280" y="2209680"/>
            <a:ext cx="292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sod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zinc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alumin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the names of the following binary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di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B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ass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min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LETSGO2.WAV" descr=""/>
          <p:cNvPicPr/>
          <p:nvPr/>
        </p:nvPicPr>
        <p:blipFill>
          <a:blip r:embed="rId1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3893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 that can have more than one possible charge MUST have a Roman Numeral to indicate the charge on the individual 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8f9954"/>
                </a:solidFill>
                <a:uFillTx/>
                <a:latin typeface="Arial"/>
              </a:rPr>
              <a:t>1+ or 2+              2+ or 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,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           Fe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, Fe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opper(I) ion  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iron(II) 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opper (II) ion    iron(III) 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s of Variable 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elements REQUIRE Roman Numerals because they can have more than one possible char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nything except Group 1A, 2A, Ag, Zn, Cd, and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b5a60"/>
                </a:solidFill>
                <a:latin typeface="Arial"/>
              </a:rPr>
              <a:t>(You should already know the charges on these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other way to say it is: Transition metals and the</a:t>
            </a:r>
            <a:r>
              <a:rPr b="1" lang="en-US" sz="1800" spc="-1" strike="noStrike">
                <a:solidFill>
                  <a:srgbClr val="524a8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f9954"/>
                </a:solidFill>
                <a:latin typeface="Arial"/>
              </a:rPr>
              <a:t>metals</a:t>
            </a:r>
            <a:r>
              <a:rPr b="1" lang="en-US" sz="1800" spc="-1" strike="noStrike">
                <a:solidFill>
                  <a:srgbClr val="524a8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roups 4A a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5A (except Ag, Zn, Cd, and Al) require a Roman Num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(III) chlor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per (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n (IV)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of Older Names of Cations formed from Transition Metal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do not have to memorize the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Table_4-2"/>
          <p:cNvPicPr/>
          <p:nvPr/>
        </p:nvPicPr>
        <p:blipFill>
          <a:blip r:embed="rId1"/>
          <a:stretch/>
        </p:blipFill>
        <p:spPr>
          <a:xfrm>
            <a:off x="914400" y="1974960"/>
            <a:ext cx="7315200" cy="4883040"/>
          </a:xfrm>
          <a:prstGeom prst="rect">
            <a:avLst/>
          </a:prstGeom>
          <a:ln w="28440">
            <a:solidFill>
              <a:srgbClr val="7c8f97"/>
            </a:solidFill>
            <a:miter/>
          </a:ln>
        </p:spPr>
      </p:pic>
      <p:sp>
        <p:nvSpPr>
          <p:cNvPr id="168" name="Oval 5"/>
          <p:cNvSpPr/>
          <p:nvPr/>
        </p:nvSpPr>
        <p:spPr>
          <a:xfrm>
            <a:off x="1752480" y="6324480"/>
            <a:ext cx="579132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665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rms of Chemical Bo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4960" y="1371240"/>
            <a:ext cx="5205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100000"/>
              </a:lnSpc>
              <a:spcBef>
                <a:spcPts val="700"/>
              </a:spcBef>
              <a:buClr>
                <a:srgbClr val="9c523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forms bonding ato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100000"/>
              </a:lnSpc>
              <a:spcBef>
                <a:spcPts val="700"/>
              </a:spcBef>
              <a:buClr>
                <a:srgbClr val="9c523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9954"/>
                </a:solidFill>
                <a:latin typeface="Arial"/>
              </a:rPr>
              <a:t>I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comple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f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1 or more electrons from one atom to another (one loses, the other g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100000"/>
              </a:lnSpc>
              <a:spcBef>
                <a:spcPts val="700"/>
              </a:spcBef>
              <a:buClr>
                <a:srgbClr val="9c523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9954"/>
                </a:solidFill>
                <a:latin typeface="Arial"/>
              </a:rPr>
              <a:t>Co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some valence electrons </a:t>
            </a:r>
            <a:r>
              <a:rPr b="0" i="1" lang="en-US" sz="2800" spc="-1" strike="noStrike">
                <a:solidFill>
                  <a:srgbClr val="6f6d5d"/>
                </a:solidFill>
                <a:latin typeface="Arial"/>
              </a:rPr>
              <a:t>shared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 between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100000"/>
              </a:lnSpc>
              <a:spcBef>
                <a:spcPts val="700"/>
              </a:spcBef>
              <a:buClr>
                <a:srgbClr val="9c523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9954"/>
                </a:solidFill>
                <a:latin typeface="Arial"/>
              </a:rPr>
              <a:t>_________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 – holds atoms of a meta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49280" y="1530360"/>
            <a:ext cx="2406600" cy="2730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7c8f97">
                <a:alpha val="75000"/>
              </a:srgbClr>
            </a:outerShdw>
          </a:effectLst>
        </p:spPr>
      </p:pic>
      <p:sp>
        <p:nvSpPr>
          <p:cNvPr id="100" name="Line 5"/>
          <p:cNvSpPr/>
          <p:nvPr/>
        </p:nvSpPr>
        <p:spPr>
          <a:xfrm>
            <a:off x="392040" y="1066680"/>
            <a:ext cx="8283600" cy="0"/>
          </a:xfrm>
          <a:prstGeom prst="line">
            <a:avLst/>
          </a:prstGeom>
          <a:ln w="25560">
            <a:solidFill>
              <a:srgbClr val="524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28600" y="460044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bonds are somewhere in between ionic and coval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the names of the following binary compounds with variable metal 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(_____)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per (_____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(_____ ) 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HINK!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369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ate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13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ite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413240" y="1339920"/>
            <a:ext cx="3048120" cy="2349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4387680" y="4095720"/>
            <a:ext cx="355608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51055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Polyatomic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make additional polyatomic ions by adding a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the 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is carbo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hydrogen carbona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dihydrogen phosph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hydrogen sulf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Polyatomic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nary Ionic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386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each ion, cation first.  Do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show charges in the fin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charge must equal </a:t>
            </a:r>
            <a:r>
              <a:rPr b="1" lang="en-US" sz="3200" spc="-1" strike="noStrike">
                <a:solidFill>
                  <a:srgbClr val="6f6d5d"/>
                </a:solidFill>
                <a:latin typeface="Arial"/>
              </a:rPr>
              <a:t>zer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charges cancel, just write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t, use subscripts to balance char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parentheses to show more than one of a particular </a:t>
            </a:r>
            <a:r>
              <a:rPr b="1" lang="en-US" sz="3200" spc="-1" strike="noStrike">
                <a:solidFill>
                  <a:srgbClr val="6f6d5d"/>
                </a:solidFill>
                <a:latin typeface="Arial"/>
              </a:rPr>
              <a:t>polyatomic 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6f6d5d"/>
                </a:solidFill>
                <a:latin typeface="Arial"/>
              </a:rPr>
              <a:t>Roman numer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icate the io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6f6d5d"/>
                </a:solidFill>
                <a:latin typeface="Arial"/>
              </a:rPr>
              <a:t>char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needed (stock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nary Ionic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386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d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and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(III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monium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–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aluminum nit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Al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       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Al(NO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Al(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copper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Cu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Cu(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Cu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(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Iron (III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FeOH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Fe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OH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Fe(OH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Tin(IV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Sn(OH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b)  Sn(OH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Sn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(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APPLAUSE.WAV" descr=""/>
          <p:cNvPicPr/>
          <p:nvPr/>
        </p:nvPicPr>
        <p:blipFill>
          <a:blip r:embed="rId1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49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ing Ternary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ins at least 3 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re MUST be at least one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polyatomic 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(it helps to circle the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O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dium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it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assium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sulf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(HCO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uminum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bicarbo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uminum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hydrogen carbo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each set with the correct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 magnesium sulfi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 magnes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 sodium carbon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calcium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 calc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 calcium bi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F5B0A15B.WAV" descr=""/>
          <p:cNvPicPr/>
          <p:nvPr/>
        </p:nvPicPr>
        <p:blipFill>
          <a:blip r:embed="rId1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84582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0060B7CE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Up… The Other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(II)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 nit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ium 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ium hyd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melbch2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mmonia"/>
          <p:cNvPicPr/>
          <p:nvPr/>
        </p:nvPicPr>
        <p:blipFill>
          <a:blip r:embed="rId2"/>
          <a:stretch/>
        </p:blipFill>
        <p:spPr>
          <a:xfrm>
            <a:off x="6019920" y="4503600"/>
            <a:ext cx="3124080" cy="235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172200" cy="5105520"/>
          </a:xfrm>
          <a:prstGeom prst="rect">
            <a:avLst/>
          </a:prstGeom>
          <a:solidFill>
            <a:srgbClr val="5ea5ff">
              <a:alpha val="5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A lot of chemicals have common names as well as the proper IUPAC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hemicals that should always be named by common name and never named by the IUPAC method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water, not dihydroge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   ammonia, not nitrogen trihyd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3048120" y="4191120"/>
            <a:ext cx="2590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819520" y="5715000"/>
            <a:ext cx="3809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9954"/>
                </a:solidFill>
                <a:latin typeface="Comic Sans MS"/>
              </a:rPr>
              <a:t>Naming Molecula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313000" cy="1243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93360" y="5638680"/>
            <a:ext cx="171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6d5d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6f6d5d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6f6d5d"/>
                </a:solidFill>
                <a:latin typeface="Arial"/>
              </a:rPr>
              <a:t>meth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057400" cy="836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4724280" y="30844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3429000" y="3962520"/>
            <a:ext cx="1447920" cy="1320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3123720" y="5410080"/>
            <a:ext cx="2215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on tri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216960" y="2743200"/>
            <a:ext cx="270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965920" y="1752480"/>
            <a:ext cx="256860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are formed from two or more nonmetals. </a:t>
            </a:r>
            <a:r>
              <a:rPr b="1" lang="en-US" sz="1800" spc="-1" strike="noStrike">
                <a:solidFill>
                  <a:srgbClr val="524a8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5943600" y="3733920"/>
            <a:ext cx="2743200" cy="2653560"/>
          </a:xfrm>
          <a:prstGeom prst="rect">
            <a:avLst/>
          </a:prstGeom>
          <a:solidFill>
            <a:srgbClr val="4b5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mpounds generally involve a metal and nonme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a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12"/>
          <p:cNvGraphicFramePr/>
          <p:nvPr/>
        </p:nvGraphicFramePr>
        <p:xfrm>
          <a:off x="533520" y="3657600"/>
          <a:ext cx="2239920" cy="18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657600"/>
                    <a:ext cx="22399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4247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lecular (Covalent) Nomencla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wo </a:t>
            </a: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n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9680" indent="-229680">
              <a:spcBef>
                <a:spcPts val="40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ix Syst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inary compou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Less electro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s fir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prefi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dicate # of atoms.  Omit 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mon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fix on the FIRST element.  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Mon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PTIONAL on the SECOND element (in this class,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NOT optional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ending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element to 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-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6095880" y="2133720"/>
            <a:ext cx="2763720" cy="1553760"/>
            <a:chOff x="6095880" y="2133720"/>
            <a:chExt cx="2763720" cy="1553760"/>
          </a:xfrm>
        </p:grpSpPr>
        <p:pic>
          <p:nvPicPr>
            <p:cNvPr id="210" name="Picture 5" descr="pertable"/>
            <p:cNvPicPr/>
            <p:nvPr/>
          </p:nvPicPr>
          <p:blipFill>
            <a:blip r:embed="rId1"/>
            <a:stretch/>
          </p:blipFill>
          <p:spPr>
            <a:xfrm>
              <a:off x="6447960" y="2353320"/>
              <a:ext cx="2411640" cy="13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6"/>
            <p:cNvSpPr/>
            <p:nvPr/>
          </p:nvSpPr>
          <p:spPr>
            <a:xfrm>
              <a:off x="6846840" y="2133720"/>
              <a:ext cx="1482480" cy="214200"/>
            </a:xfrm>
            <a:prstGeom prst="leftArrow">
              <a:avLst>
                <a:gd name="adj1" fmla="val 50176"/>
                <a:gd name="adj2" fmla="val 103719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16200000">
              <a:off x="5460840" y="2809080"/>
              <a:ext cx="1484280" cy="214560"/>
            </a:xfrm>
            <a:prstGeom prst="leftArrow">
              <a:avLst>
                <a:gd name="adj1" fmla="val 50907"/>
                <a:gd name="adj2" fmla="val 10860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99880" y="1364760"/>
            <a:ext cx="29811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di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tetr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hex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t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oct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dec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70080" y="1364760"/>
            <a:ext cx="40129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83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1704960" y="1890720"/>
            <a:ext cx="5735520" cy="0"/>
          </a:xfrm>
          <a:prstGeom prst="line">
            <a:avLst/>
          </a:prstGeom>
          <a:ln w="57240">
            <a:solidFill>
              <a:srgbClr val="9c52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title"/>
          </p:nvPr>
        </p:nvSpPr>
        <p:spPr>
          <a:xfrm>
            <a:off x="457200" y="150840"/>
            <a:ext cx="84391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ar Nomenclature Prefi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33440" y="2590920"/>
            <a:ext cx="52592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tetra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33440" y="4037040"/>
            <a:ext cx="52592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nitroge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33440" y="5477040"/>
            <a:ext cx="72262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lfur hexa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3436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ar Nomenclature: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79520" y="1946160"/>
            <a:ext cx="753588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senic tri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trogen pent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raphosphorus dec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33440" y="2590920"/>
            <a:ext cx="52592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33440" y="4049640"/>
            <a:ext cx="52592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33440" y="5477040"/>
            <a:ext cx="72262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2176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Molecular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the blanks to complete the following names of covalent com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O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arbon ______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arbon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PCl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phosphorus _______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Cl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arbon  ________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_____nitrogen  _____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4EB492FA.WAV" descr=""/>
          <p:cNvPicPr/>
          <p:nvPr/>
        </p:nvPicPr>
        <p:blipFill>
          <a:blip r:embed="rId1"/>
          <a:stretch/>
        </p:blipFill>
        <p:spPr>
          <a:xfrm>
            <a:off x="93726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phosphorus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phosphorus pent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diphosphorus pent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dichlorine  hept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dichlorine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chlorine hept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chlorine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dichlorine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d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Round1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55666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strategy for naming chemical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Zumdahl04_02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4778280"/>
          </a:xfrm>
          <a:prstGeom prst="rect">
            <a:avLst/>
          </a:prstGeom>
          <a:ln w="28440">
            <a:solidFill>
              <a:srgbClr val="7c8f97"/>
            </a:solidFill>
            <a:miter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low chart for naming binary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Zumdahl04_01"/>
          <p:cNvPicPr/>
          <p:nvPr/>
        </p:nvPicPr>
        <p:blipFill>
          <a:blip r:embed="rId1"/>
          <a:stretch/>
        </p:blipFill>
        <p:spPr>
          <a:xfrm>
            <a:off x="1447920" y="1001880"/>
            <a:ext cx="6248160" cy="5398920"/>
          </a:xfrm>
          <a:prstGeom prst="rect">
            <a:avLst/>
          </a:prstGeom>
          <a:ln w="28440">
            <a:solidFill>
              <a:srgbClr val="7c8f97"/>
            </a:solidFill>
            <a:miter/>
          </a:ln>
        </p:spPr>
      </p:pic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xed Re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a)  calcium oxide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b) calcium(I) oxide</a:t>
            </a:r>
            <a:br>
              <a:rPr sz="2400"/>
            </a:b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c)  calcium (II)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tin tetrachloride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tin(II) chlori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tin(IV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a)  nitrogen oxide   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b) dinitrogen tr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c)  nitrogen tr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WhoWantsToBeAMillionaire.wav" descr=""/>
          <p:cNvPicPr/>
          <p:nvPr/>
        </p:nvPicPr>
        <p:blipFill>
          <a:blip r:embed="rId1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3435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876920" y="609480"/>
            <a:ext cx="3429000" cy="16765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4a82"/>
                </a:solidFill>
                <a:latin typeface="Arial"/>
              </a:rPr>
              <a:t>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Arial"/>
              </a:rPr>
              <a:t>AN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--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724280" y="3809880"/>
            <a:ext cx="3886200" cy="2057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A neutral comp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equal number of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and -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3886200" cy="1981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9100"/>
                </a:solidFill>
                <a:latin typeface="Comic Sans MS"/>
              </a:rPr>
              <a:t>COMPOUNDS FORMED FROM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266652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182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-&gt; Na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6d5d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01480" y="2495520"/>
            <a:ext cx="4000680" cy="3530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</p:spTree>
  </p:cSld>
  <p:transition>
    <p:cut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345920" y="254016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calc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345560" y="345456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tin(IV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4347360" y="452124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Dinitrogen tr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itroge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hlorine hept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 (III)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(III) sulf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dine mono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048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(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unds that form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s usually begin with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an acid instead of a gas, binary acids must be aqueous (dissolved in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nary acids are ALL aqu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nit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6f6d5d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6f6d5d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id Nomenclature Flow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876320" y="1523880"/>
          <a:ext cx="533268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523880"/>
                    <a:ext cx="5332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33440" y="2590920"/>
            <a:ext cx="422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oxygen, </a:t>
            </a:r>
            <a:r>
              <a:rPr b="0" lang="en-US" sz="2800" spc="-1" strike="noStrike">
                <a:solidFill>
                  <a:srgbClr val="4b5a60"/>
                </a:solidFill>
                <a:latin typeface="Arial"/>
                <a:ea typeface="ＭＳ Ｐゴシック"/>
              </a:rPr>
              <a:t>-</a:t>
            </a:r>
            <a:r>
              <a:rPr b="0" i="1" lang="en-US" sz="2800" spc="-1" strike="noStrike">
                <a:solidFill>
                  <a:srgbClr val="4b5a60"/>
                </a:solidFill>
                <a:latin typeface="Arial"/>
                <a:ea typeface="ＭＳ Ｐゴシック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433440" y="4037040"/>
            <a:ext cx="83516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oxygen, </a:t>
            </a:r>
            <a:r>
              <a:rPr b="0" i="1" lang="en-US" sz="2800" spc="-1" strike="noStrike">
                <a:solidFill>
                  <a:srgbClr val="4b5a60"/>
                </a:solidFill>
                <a:latin typeface="Arial"/>
                <a:ea typeface="ＭＳ Ｐゴシック"/>
              </a:rPr>
              <a:t>-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433440" y="5477040"/>
            <a:ext cx="4565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oxygen, </a:t>
            </a:r>
            <a:r>
              <a:rPr b="0" i="1" lang="en-US" sz="2800" spc="-1" strike="noStrike">
                <a:solidFill>
                  <a:srgbClr val="4b5a60"/>
                </a:solidFill>
                <a:latin typeface="Arial"/>
                <a:ea typeface="ＭＳ Ｐゴシック"/>
              </a:rPr>
              <a:t>-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4529160" y="2583000"/>
            <a:ext cx="4233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b5a60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4527720" y="4038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4b5a60"/>
                </a:solidFill>
                <a:latin typeface="Arial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4527720" y="5465880"/>
            <a:ext cx="38113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4b5a60"/>
                </a:solidFill>
                <a:latin typeface="Arial"/>
              </a:rPr>
              <a:t>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33440" y="2590920"/>
            <a:ext cx="30607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433440" y="4037040"/>
            <a:ext cx="41720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33440" y="5477040"/>
            <a:ext cx="4164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40360" y="2590920"/>
            <a:ext cx="199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838920" y="4038480"/>
            <a:ext cx="2305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6838920" y="5467320"/>
            <a:ext cx="22608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4356000" y="2590920"/>
            <a:ext cx="2325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354560" y="4038480"/>
            <a:ext cx="26924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4354560" y="5467320"/>
            <a:ext cx="2641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66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9" dur="4272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Formul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tell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08680" y="344520"/>
            <a:ext cx="805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9954"/>
                </a:solidFill>
                <a:latin typeface="Comic Sans MS"/>
              </a:rPr>
              <a:t>Predicting Charges on Monatomic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9954"/>
                </a:solidFill>
                <a:latin typeface="Comic Sans MS"/>
              </a:rPr>
              <a:t>KNOW THESE 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harges"/>
          <p:cNvPicPr/>
          <p:nvPr/>
        </p:nvPicPr>
        <p:blipFill>
          <a:blip r:embed="rId1"/>
          <a:stretch/>
        </p:blipFill>
        <p:spPr>
          <a:xfrm>
            <a:off x="0" y="2008080"/>
            <a:ext cx="9144000" cy="4640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89640" y="11826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  +2                                                                     -3   -2   -1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57200" y="1676520"/>
            <a:ext cx="76320" cy="53316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990360" y="1600200"/>
            <a:ext cx="75960" cy="106668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7162920" y="1676520"/>
            <a:ext cx="75960" cy="106668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7696080" y="1600200"/>
            <a:ext cx="76320" cy="121932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8153280" y="1676520"/>
            <a:ext cx="76320" cy="68580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8763120" y="1676520"/>
            <a:ext cx="0" cy="53316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493600" y="48006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8f97"/>
                </a:solidFill>
                <a:latin typeface="Arial"/>
              </a:rPr>
              <a:t>Cd</a:t>
            </a:r>
            <a:r>
              <a:rPr b="0" lang="en-US" sz="1400" spc="-1" strike="noStrike" baseline="30000">
                <a:solidFill>
                  <a:srgbClr val="7c8f97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nomenclature flowchart copy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006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106668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menclature Summary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i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Study Time</a:t>
            </a:r>
            <a:br>
              <a:rPr sz="3600"/>
            </a:br>
            <a:br>
              <a:rPr sz="3600"/>
            </a:br>
            <a:r>
              <a:rPr b="0" lang="en-US" sz="21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monster house don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5" dur="2378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bow Matrix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 on Chemistry Geek.com on Chemistry I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24a82"/>
                </a:solidFill>
                <a:uFillTx/>
                <a:latin typeface="Arial"/>
                <a:hlinkClick r:id="rId1"/>
              </a:rPr>
              <a:t>http://chemistrygeek.com/rainb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[ ] to represent subscripts since you can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enter subscripts into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would be H[2]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ould be Al[2](SO[4])[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Polyatomic Ions (you do not have to memorize these, but they are in the ga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ate = 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;  Silicate = Si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anate = M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ermanganate is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9100"/>
                </a:solidFill>
                <a:latin typeface="Comic Sans MS"/>
              </a:rPr>
              <a:t>Properties of Ionic Compounds</a:t>
            </a:r>
            <a:br>
              <a:rPr sz="2800"/>
            </a:br>
            <a:r>
              <a:rPr b="0" lang="en-US" sz="2800" spc="-1" strike="noStrike">
                <a:solidFill>
                  <a:srgbClr val="ef9100"/>
                </a:solidFill>
                <a:latin typeface="Arial"/>
              </a:rPr>
              <a:t>Forming NaCl from Na and Cl</a:t>
            </a:r>
            <a:r>
              <a:rPr b="0" lang="en-US" sz="2800" spc="-1" strike="noStrike" baseline="-25000">
                <a:solidFill>
                  <a:srgbClr val="ef9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al atom can transfer an electron to a non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ation and anion are attracted to each other by </a:t>
            </a:r>
            <a:r>
              <a:rPr b="0" lang="en-US" sz="2800" spc="-1" strike="noStrike">
                <a:solidFill>
                  <a:srgbClr val="524a82"/>
                </a:solidFill>
                <a:latin typeface="Comic Sans MS"/>
              </a:rPr>
              <a:t>electrostatic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03M10VD1.avi" descr=""/>
          <p:cNvPicPr/>
          <p:nvPr/>
        </p:nvPicPr>
        <p:blipFill>
          <a:blip r:embed="rId1"/>
          <a:stretch/>
        </p:blipFill>
        <p:spPr>
          <a:xfrm>
            <a:off x="5505480" y="1962000"/>
            <a:ext cx="2095560" cy="1562400"/>
          </a:xfrm>
          <a:prstGeom prst="rect">
            <a:avLst/>
          </a:prstGeom>
          <a:ln w="0">
            <a:noFill/>
          </a:ln>
        </p:spPr>
      </p:pic>
      <p:pic>
        <p:nvPicPr>
          <p:cNvPr id="126" name="03M10AN1.avi" descr=""/>
          <p:cNvPicPr/>
          <p:nvPr/>
        </p:nvPicPr>
        <p:blipFill>
          <a:blip r:embed="rId2"/>
          <a:stretch/>
        </p:blipFill>
        <p:spPr>
          <a:xfrm>
            <a:off x="5410080" y="40194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162920" cy="8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9100"/>
                </a:solidFill>
                <a:latin typeface="Comic Sans MS"/>
              </a:rPr>
              <a:t>IONIC COMPOU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5737320" cy="4995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1298880" y="1752480"/>
            <a:ext cx="2117520" cy="851760"/>
            <a:chOff x="1298880" y="1752480"/>
            <a:chExt cx="2117520" cy="851760"/>
          </a:xfrm>
        </p:grpSpPr>
        <p:sp>
          <p:nvSpPr>
            <p:cNvPr id="130" name="Rectangle 5"/>
            <p:cNvSpPr/>
            <p:nvPr/>
          </p:nvSpPr>
          <p:spPr>
            <a:xfrm>
              <a:off x="1298880" y="1752480"/>
              <a:ext cx="135828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679840" y="2242800"/>
              <a:ext cx="73656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"/>
          <p:cNvGrpSpPr/>
          <p:nvPr/>
        </p:nvGrpSpPr>
        <p:grpSpPr>
          <a:xfrm>
            <a:off x="1979640" y="3581280"/>
            <a:ext cx="1754280" cy="759240"/>
            <a:chOff x="1979640" y="3581280"/>
            <a:chExt cx="1754280" cy="759240"/>
          </a:xfrm>
        </p:grpSpPr>
        <p:sp>
          <p:nvSpPr>
            <p:cNvPr id="133" name="Rectangle 8"/>
            <p:cNvSpPr/>
            <p:nvPr/>
          </p:nvSpPr>
          <p:spPr>
            <a:xfrm>
              <a:off x="1979640" y="3581280"/>
              <a:ext cx="849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2921040" y="3995640"/>
              <a:ext cx="8128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10"/>
          <p:cNvSpPr/>
          <p:nvPr/>
        </p:nvSpPr>
        <p:spPr>
          <a:xfrm>
            <a:off x="462960" y="6281640"/>
            <a:ext cx="53935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monium chloride,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9100"/>
                </a:solidFill>
                <a:latin typeface="Comic Sans MS"/>
              </a:rPr>
              <a:t>Some Ionic Compou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Mg</a:t>
            </a:r>
            <a:r>
              <a:rPr b="0" lang="en-US" sz="3600" spc="-1" strike="noStrike" baseline="30000">
                <a:solidFill>
                  <a:srgbClr val="4b5a60"/>
                </a:solidFill>
                <a:latin typeface="Arial"/>
              </a:rPr>
              <a:t>2+</a:t>
            </a: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   +   N</a:t>
            </a:r>
            <a:r>
              <a:rPr b="0" lang="en-US" sz="3600" spc="-1" strike="noStrike" baseline="30000">
                <a:solidFill>
                  <a:srgbClr val="4b5a60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  ----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Mg</a:t>
            </a:r>
            <a:r>
              <a:rPr b="0" lang="en-US" sz="36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magnesium</a:t>
            </a:r>
            <a:r>
              <a:rPr b="0" lang="en-US" sz="4000" spc="-1" strike="noStrike">
                <a:solidFill>
                  <a:srgbClr val="4b5a6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nit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Sn</a:t>
            </a:r>
            <a:r>
              <a:rPr b="0" lang="en-US" sz="3600" spc="-1" strike="noStrike" baseline="30000">
                <a:solidFill>
                  <a:srgbClr val="8f9954"/>
                </a:solidFill>
                <a:latin typeface="Arial"/>
              </a:rPr>
              <a:t>4+</a:t>
            </a: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  +  O</a:t>
            </a:r>
            <a:r>
              <a:rPr b="0" lang="en-US" sz="3600" spc="-1" strike="noStrike" baseline="30000">
                <a:solidFill>
                  <a:srgbClr val="8f9954"/>
                </a:solidFill>
                <a:latin typeface="Arial"/>
              </a:rPr>
              <a:t>2-</a:t>
            </a: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  ----&gt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SnO</a:t>
            </a:r>
            <a:r>
              <a:rPr b="0" lang="en-US" sz="3600" spc="-1" strike="noStrike" baseline="-25000">
                <a:solidFill>
                  <a:srgbClr val="8f9954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Tin (IV) 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869080" y="1116000"/>
            <a:ext cx="2549520" cy="2682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5619240" y="3666960"/>
            <a:ext cx="2907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alcium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14300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2 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-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038480" y="129528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aF</a:t>
            </a:r>
            <a:r>
              <a:rPr b="1" lang="en-US" sz="2800" spc="-1" strike="noStrike" baseline="-25000">
                <a:solidFill>
                  <a:srgbClr val="8f995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ulas of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ulas of ionic compounds are determined from the charges on the 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toms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    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F  :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F : 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5238"/>
                </a:solidFill>
                <a:latin typeface="Arial"/>
              </a:rPr>
              <a:t>sodium +  fluorine         sodium fluoride     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ge balance:        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1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1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365760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0T14:48:55Z</dcterms:created>
  <dc:creator>Neil Rapp</dc:creator>
  <dc:description/>
  <cp:keywords>nomenclature ionic compound covalent compound oxidation numbers polyatomic ions</cp:keywords>
  <dc:language>en-US</dc:language>
  <cp:lastModifiedBy>RETI, VALERIE M.</cp:lastModifiedBy>
  <dcterms:modified xsi:type="dcterms:W3CDTF">2016-01-05T17:02:06Z</dcterms:modified>
  <cp:revision>38</cp:revision>
  <dc:subject>Chemistry I (High School)</dc:subject>
  <dc:title>Nomenclature </dc:title>
</cp:coreProperties>
</file>